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9A5-E28C-4120-A5E0-13ED9CE4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F68-1DCE-4E67-A66D-FB241C82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2C3C6-7380-4FD2-98B0-9518AC89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FA396-16F6-48BA-BC14-D4346F54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BE9BE-9F56-4C2D-ACF8-F8C2B1A8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7C1CB-4E10-4208-AD37-8A54268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E5F60-114E-42EB-90D7-606AFD82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FC755-D56A-4A50-987F-03D37486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8FF09-1D18-42CB-A0C5-630FCAE4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5FDD2-D294-4416-8ED4-57289193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26B54-EE08-4A8C-BD59-B33982FE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7D365-DB5D-4EE0-B4AB-E8E7CE52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3FA-BC28-4CF4-BCE9-6425F862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B3AEE-D72C-4A40-8B5D-8556E95A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9291A-558E-45CC-9FBE-3AF9DDE3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11070-7848-4324-BDA8-88123BDC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C917D-40CA-4A6A-84C1-D68F1AF3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3B338-3500-4BD1-BD3D-C7C945AA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52778-EC8F-40BC-9522-0E5A184B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ECFC4-0F44-406B-92CC-B4254880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A6282-A309-49A1-B940-80B9CED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2F090-20AD-4441-93AE-69DEA012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9AD43-1468-4860-95E5-A3921FC5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2DB-DE9D-49B8-AE49-031F8550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59A75-F0E9-40FA-90C3-9D2B158A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C4941-C6D8-4B0C-9E9A-AFBA8922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C0EFF-0BD5-4B3B-B93A-9EF0A112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09569-CE32-4DF7-BA06-24DA76D8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256B5-398F-4B54-9CC5-E7A8E9E2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AB9A5-2B31-482D-A5BC-39F242CA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B2C24-7228-4838-8265-FBBA9A6C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5CCEA-4C9E-4CBB-BD57-AE520475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0CB03-45F4-4058-8ED6-7870DD9E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F41DE-6850-47EF-86BE-65DF7E9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19BA-A83E-42FC-9B9D-785C3DEC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C9CA7-CCC4-41B2-B382-4711A04F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24973-D111-465F-BFFA-E156E25F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1F7B9-CE61-482B-9FCE-E97590EF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CDDA3-A703-47FD-A3A5-8E62CDBC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CC3F1-88A6-4C71-BF7D-7867B89C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7AC99-4052-4A03-B4F1-C52E9777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DCBE5-D8E1-489F-B5B7-B531650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7AF44-FA0E-4BF3-96D3-7D317545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38AF6-1E2C-4E54-8222-62F4F8D1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8E59F-A1ED-4BFC-8063-DD34EF3A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F3B0-F0BB-4906-B705-29863877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E72BE-B495-4C2E-9672-2A114DB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601CE-C495-423C-995E-12CF16D4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944DE-69E4-4CFB-8922-DA9FCD55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F2BD3-1E96-49D1-A288-5E5855F4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3153B-E303-495C-8835-9438A122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FDC4F-0AB1-44D3-BD86-4B8A1E9E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D3430-D9D4-4D5F-9340-F956B66E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5E532-412E-4641-9D66-60873F02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D6225-6A58-4D3E-815A-0336C76A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DEE3F-71F6-4989-88FB-CC54B245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C721-8954-4CC6-89B1-8FE332A9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D4D42-022B-42EA-95D0-8A37DF63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7CCF67-CD61-4A5C-A53B-6FD739C7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9BD85-B8FF-48BD-A386-17B9D93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70622-AA0F-4EA7-AF9F-1C952D2B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92203-BC3F-44CD-9D3B-E75F43AF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D7048-84E1-4149-8D00-A6D4424B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ED043-842C-4D3A-9E7A-D6F019C5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08894-C33B-4661-A1D4-F5288C73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D8F3D-A0A5-49F6-8508-4E1C7B0E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63207-E69B-40F9-9CD1-FB947FE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6915-FA3E-4EFF-85F5-2F1BF6B2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BA4B5-0A79-4ABB-9F60-051A76E0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D2F05-040F-4992-86E5-C7B83F0B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F823E-CF8C-4F0B-AFBF-3119290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F67DC6-FC8C-485A-8EF8-AF6B6FF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21DDF-D8AA-4769-AECD-5B46E3A5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792FE-0C49-4F45-A2CD-BD5E066C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3A8D9-5F42-40FA-B99E-C5C6E4BC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1E225-169A-4171-B052-A2FF4D26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BEC20-D862-482B-83BB-360A7BDB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DF0E8-7498-4C8A-8F84-3023A820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3F8C-D9E7-4405-B4B9-C0D5E1B6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AD0D4-9604-4E00-80D7-3496F1E3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5079D-92F3-494C-802B-7652CBEF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747FF3-1599-4E1D-8012-6232A33D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F510D-1781-4212-A027-BE08413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1361A-8005-466D-BA10-BF4833C9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ED003-0C59-464F-88A4-C6DC49DA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9129B-0264-47A0-8318-B28E0E18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DA8B4-52D6-494D-9C18-6AA2A19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2BA50-2E3E-44D2-8458-97CB407B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3518E-5388-4038-88B4-D7730A77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A4BA-ECD8-4365-BC45-664B5924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56DB8-95AF-48AE-94B1-C7665DAC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D8199-5345-42AE-A0D4-42B2DA60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6D724-0967-4C19-909C-86A526DA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D2B0A-4A89-42D1-955B-BC176CDB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527EF-ECDF-45D8-A061-86F87979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BD3B9-C5B3-4F87-BC0A-6EC45AD1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84001-C0FE-4047-B68F-B67A05E2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252C5-B837-4208-A598-BB9C5A29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6100F-0451-48BB-8474-2A14CA1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E6CC9-D82A-49DD-820D-47E6FC52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FDA2-7EBD-4AA6-91E9-E5F80100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E0FF3-8C7D-4B10-B392-EFE62D95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2DD38-DA2C-4456-890F-5C7DBAF6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11251-4359-47A2-8532-A448AD7A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DAA26-7C2B-49C1-BB9F-7D4B3939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F1E25-825E-4AC9-9B49-DF938684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AB67E-08EC-4041-9B72-3FC97772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D36B4-AEA5-4DCC-B05E-98598D6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DC022-AAC7-4B57-B5D8-D9F747E2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0F27AE-9F28-40FE-A7CB-CAD8DA40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67A41-9754-4B3A-9D19-4C1AC97C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C15-3A57-4194-B568-E4D32AD7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1E14-87D8-4898-88DA-AC99006D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9C04F-12EC-4389-BDAD-13E01B1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EAA1D-EB9C-495F-A216-D99E2A04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B1ADD-3AF4-4FB3-9B9B-B7A51A98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64BB9-6C24-45F9-A1C2-C8A2A19F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3A59B-C519-4063-947C-FAB7937B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2A774-0E19-4BAF-865A-73AA62F3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5BB0B-D409-4F89-A7F9-637299EF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6DC57-30D4-43FB-80F4-F42C0BE7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ACCF5-E5A0-4CFA-AC29-DE166EF7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2A50F-4EE4-41D7-AD53-816E2F36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B733-5F0C-4971-A16D-5D4A5EB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94980-11EA-4078-BB39-53F602F2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5DBC2-D4BB-44F9-A9A6-BC2F1FC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0AB3E-126D-4B70-8F31-42A1DF4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7FDAB-9019-4868-9D6F-93E7FA67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2A1A4-9CB8-4921-9D09-D1874843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A371FF-9FD5-4034-AC32-26ECAB00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BAA1B-E40C-41C6-9216-0D82B48C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34D4F1-71A3-4ACD-AAAE-B4ABC1D3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5EA21-A9F7-431E-8665-C27C8E77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9E69BD-DAEE-472A-8A73-F43BFA71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1775-CB9D-46AC-BBCF-6DE3CCD4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195342-7D30-47A2-B119-A54E5C24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F71A7-6A06-4833-AF6E-204FD5DB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A448B2-DB70-408F-A5D7-BCDE339A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A399E6-6211-414C-A59F-E2F1EC9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B5A306-0FC0-4B8C-8E7C-BE073331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96776-10AE-45F6-8BFE-16DE03E5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30F501-6254-4971-8C4D-466D9DF4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AF596-18C8-40C1-97C9-84CA994C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AF5C7-8B95-47AD-B5BE-8056B665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7C8FB2-564C-482A-AC20-BD86D216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8691-E2A0-44DB-957D-9ED1C54D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965BE-5F28-43F1-A3C2-83033733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9221FB-5164-4BA8-89F3-B5361ABB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2CC5B-74BD-46AC-B56A-6B8A066F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27D81-9815-4A97-BF87-8A5C9D51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6CB40-AC1A-445F-B58B-170943F1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FA74C-3F63-4540-B30F-90F2F7DC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858B9-538C-4B1F-BEA6-9183EB1F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50818-9EC3-4612-A877-058BA44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E0FCD-664B-4832-B926-B9AA8F0B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3031B6-FB18-4462-B632-A4B1CE61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CAD1-FA23-4E78-BE6E-ECD6A779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9D796D-89EA-48DC-B328-E74FA726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CD6E8-4A74-407C-B5CF-0726D8AE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0AB11-A8D8-4EFE-95E3-D866839F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B3F5F4-1FF4-4D00-9A9F-CFF9E71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6A7036-058D-402A-B578-EEDE7AD5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D8920F-CB8F-44FC-A10C-CEDA7AFF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768BBC-32C3-4562-A393-B22D1193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6806A6-FFE6-4EC6-9DA6-A4D4AEF3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54674D-1939-416E-B22B-74A1CE0E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AA48C-A4BF-41B9-8422-319EDAA8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BFAB-0976-438F-A368-B2C40968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38C6D5-D7EF-4DB2-97E2-AB3FC3F9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0B420-56C4-4AAD-90DA-ADA1A3F6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A3542-BA5A-4205-A45A-E903C928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BE01-8D54-44EC-9563-029AC1AE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FC79-55B7-4B06-9AD9-CEA5C259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9F0C-8AF6-45F4-A9F3-5C07B9CD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3BE0-DC47-4221-BC1D-C506F062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B52-0A1E-40F8-8354-670795FF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E7D7-E2C4-4372-8C00-2F4CBCCE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8A1E-4DBD-4EAF-B5AB-A4CFD997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197A8-31F8-4699-BBD8-2DFB180D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9A40-072B-426C-8EBD-AE502108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D25A-B014-49D0-A16B-EF6ABB6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208C-DBC0-4872-B1A2-5F88A7DD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EA4C-D116-4111-B49C-26506FFA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B164A-89D8-4E00-ABC0-3BF5E369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65D5-3246-4EEC-B546-CD5330EE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44B4-2910-45FA-A703-7EFA755D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0AD-5300-4A80-91AF-68597D09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FE73A-39AC-4E4B-9978-6D799C2F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9844-BBAA-4EF8-A31F-9E6A862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86A1-BC86-432A-9BAD-DC4B1281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CFF95-7EAA-495A-A79F-766F79F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6E0D7-5EB8-459C-B341-03508207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8106F-21CE-4C99-8814-95E13BCD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D28C2-7032-4294-9522-54099251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886B4-D2CC-48DD-94BD-D2A79ED3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D616-F2B8-4456-B373-0D558F75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A2217-A260-4FFE-919B-0879B8E6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0FB-8A60-4843-8FCA-4A6846B0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9A71F-B2D6-4F1E-ADE7-B376088D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B3BA-9BDD-4AD3-870F-3ED1CA0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1C23F-053D-4E23-B844-8AB321C2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849E-1268-4D66-AD8E-D5492CA1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115DA-19E8-4004-90FE-8A635EBF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10FC-507E-4789-A9B4-E5FDFAC8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43A85-29C6-4562-BA74-E69051D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828D-5CF7-47E8-AACB-B1A0F34B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6CC66-8A5E-4A88-80A7-3A8D9D23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8F9CC-BF1F-4857-8388-13FAB8BD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AF4-A9B1-4D4A-87A7-93BC585B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2467-9C47-4608-81A0-25BEC365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8A7D1-53DC-4C1B-A640-D5544B51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1368-24FC-48A9-A116-B93184FF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3E9D7-3655-4225-9E8F-ADC45B7C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C6DB-01DB-40DA-B825-AF745181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2DBC0-C513-492E-AB52-0417198D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4A48A-8672-40D1-8115-F78E1959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A8B7F-2839-4679-B0D7-A8A5A8E8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E89C-7B97-4382-8488-DC4197E2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2888D-75F4-4AAD-99F2-A556AB9A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2BB-5AD8-4288-B9E8-2C5E3900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91D08-1F7C-43DF-8B4F-732137B0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2125-9B0C-44BF-A405-A6D713D8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27C9-C11F-46DB-A125-EF4BFABF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62EF1-3FF9-4BB3-88B5-D621985F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B5119-332C-4053-BB57-AF6409F6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02F99-426F-44A3-A571-ED96D3AF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810E7-BAD4-4404-9269-DEA9F7CC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8B709-EE3D-4F84-A6B8-192A73D1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7B65-D83E-4448-9A8C-D8E7F2A6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1A691-C9CB-41D5-AFB4-96158471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8DD-CC9C-4FBE-AFC7-B3ADC052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7CAEA-89A7-49CE-9051-898308A7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0B60A-B9FA-4406-8801-3AF1BC9C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D1D51-0F57-4BC7-95B9-56828DFF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48B37-8CB1-43C6-B1ED-AA1D0485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9F43-9A58-40DE-BCAA-1861DD8C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88A2D-CB20-44A4-95EC-A922B098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236AD-E6DE-4D51-9397-D983B915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C1CFC-755B-42D1-A7E8-0D893FFF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444CF-02F4-4E28-8F67-E9939EC4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D9B72-4C5A-4076-8F62-FF405E2F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8FB-C3A6-4133-8221-9BAB98FB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1998-ED6B-49E9-8D3A-E95F365D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8ECBC-841C-45F1-A28F-7690CD90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804BD-356B-4236-8533-4CDC233A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06532-1F54-4B80-9BA9-08896270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DF678-8C08-4473-9119-D599A539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C37D0-1542-4938-A838-EC4064E4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65620-23C8-42E7-92D1-A5EBBF57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C496B-14DD-4AFD-AF09-CE81FB1F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FA14-AD7A-4CB0-B7E3-B91C1AD3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C0E1E-C339-4998-8FE4-2E3603CE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410B-89E8-4A71-A798-88813DD35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CDB3-4DD0-4474-B6C0-51033086C9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7449-7C61-44B6-A463-8B6DE5BD73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8393-DAD3-47E7-AFF0-143768B3D2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5CC0-3C5B-4934-BFF6-C135EDAD5A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DD5F-1A2C-41A6-B813-918FE51C59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E807-FCB8-491C-8CA6-195DB4F881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FEDD-F240-4AE1-9ABA-D43AF1010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BA18-887C-472D-AF4C-78E79B38ED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02B1-45D4-4EFD-9C65-E893AF49B5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62C0-DD80-46D8-9F8E-EFE78810E3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7E74-3DF0-4017-B623-932F35B89F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BEA9-F374-4E01-BA64-84285E75A8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F6FD-7F7F-45A9-A335-708EF2BFA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1691-9679-4E98-B8CC-C0AD0AFDE1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FF82-15D4-48E7-822A-E9C8DDEFB9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0BEB-8A87-47D7-949E-27095B6A57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3CB1-AC24-4A33-847A-377A0C8E88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7997-EEF3-4C15-B828-6BD94B613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1910-9EA2-4F06-BC35-90122A4698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F4FC-BE78-4A13-BFF8-08A2EC51F6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4A54-4192-4826-9101-FAD2094DB6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A1E8-5771-4114-B251-0F351D3839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EEA8-17F6-46DF-BD71-77E7C74A70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AD83-E159-47DE-B345-9C77DA6050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DEB5-CCD0-41DC-B62B-EC481212B6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5488-64D0-486F-8F68-191EC4D82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9093-B5D3-4102-A1C0-F8A363BE3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EC82-A8AF-4CDB-B51A-8E64AC515E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BF91-1CC9-4DB2-B98E-31E3A6292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235E-53EB-41A2-A056-625BC6AC92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A097-A67E-4F15-A9A5-751E077224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0301-FF65-45E6-9A88-B0CE46C925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5097-98F4-4421-9970-CBA4A8D4C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3CBE-52BA-4037-8C93-93C78C5371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10A4-2CBE-43A8-9FEA-2391A31760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540-8F38-41AE-BF83-C9CA4C1A3D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0A71-D104-4D97-8E93-DCE492D30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E4FF-8AF6-4732-A268-AEF681BFF3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E04E-3C46-467D-86CA-76128A8526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345960" y="2622600"/>
            <a:ext cx="8307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98280" y="961920"/>
            <a:ext cx="8947440" cy="51912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01200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16000" y="38322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084720" y="3860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15920" y="1685880"/>
            <a:ext cx="8913960" cy="34862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-3240" y="1171440"/>
            <a:ext cx="9151920" cy="4515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971640" y="1685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1042920" y="4365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123840" y="1604880"/>
            <a:ext cx="8896320" cy="36482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503280" cy="3603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1042920" y="2982960"/>
            <a:ext cx="503280" cy="360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1116000" y="2536920"/>
            <a:ext cx="503280" cy="360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1042920" y="4278240"/>
            <a:ext cx="503280" cy="360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1042920" y="3846600"/>
            <a:ext cx="50328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2:4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